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050-4954-4306-BC9C-C98C2341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C61-C1D1-4336-9190-A80A07D8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129-B84A-4E54-AD90-7D1258AC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2CA-6C18-4410-94E5-6A3CFD48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FAAA-9766-43FC-BBC7-39A9E8B7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47CF-327E-4141-95C2-CC66DE98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478A-BD78-41B7-A084-2F456D4D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10D2-F310-473C-B9DA-E1520392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BD4E-4B69-4E97-9082-00B9A107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A794-E0F6-4402-BA69-B4594F13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F941-1BCA-4A0E-AD51-4D851057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6CF-3894-49CD-A865-C2B8ED57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D11B-B77D-4F74-BF74-5B6BF244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055-1A4E-407D-B871-BB659FF7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D637-A350-4FB5-87EA-12DBD0FB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AF69-7731-42C7-9C61-43B4B5F8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F679-A698-4931-8671-0FFC2AFA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FC38-BBD8-4022-B51D-F8E55774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1B0F-DC5E-4088-B91F-D273C6BD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0C9C-3EFD-4589-8408-1B7FAB0F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A206-3396-4644-B2DA-27523B17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4F90-4A50-436F-9769-E4341F74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B42-DDFA-461E-A0CE-0C830743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D754-BEA3-4BDA-916D-FA65AC68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5478-A545-4D4E-B3B9-0128334B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C744-2B8E-433B-BE01-F5FC2369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9D8E-1078-4DA2-BFFE-5D08CB20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5E0F-E9A7-47A1-BBD0-A3ECEF19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2ACC9-AEEC-4881-BBD2-86FD60E3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23AD8-ABF4-4B25-904E-0C71C23D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699E-954F-44FE-935D-9C76253F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61636-68F4-4A64-9FBE-D3C6DD9C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BB808-8709-4CEE-B3F9-FEE8E7D8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DE8-D2B5-4B9D-AAE8-4073C17C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17738-991C-4C86-9101-DB804C5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C390B-6A69-4533-BCA9-3B623F42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A3E9-6064-427F-BC4E-D3386AEB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5889-683E-4DF9-B0C8-753A0C38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E5EEA-E9D7-4BD3-8B7C-BE63B52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1FBF-B367-451E-B83C-DCFB54AC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B2BA-C0CC-4478-A8A2-C29B96FE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10D1B-8EE3-46FA-8454-D39AD2DE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D0485-3CA2-4440-B0EB-382D5818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6C647-0713-4C58-87D8-0A6F911C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A32-65E3-49C1-A2EE-BF4A526D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A2F06-255E-4BEB-ACBC-06C47FF9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025C-B0BA-4040-A70F-916F9A3E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318C-7212-4A5C-B5D8-2C8B74F7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E9058-B4E5-4B7C-B533-844B411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A645F-7370-4878-A9AE-8E67A8BC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BC96-1A20-454A-87EC-7C041FB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225A0-FBB3-4526-AA6A-86A20F65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D6F8D-B6EE-446C-A181-78EE4E8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70B36-CEC3-4709-BA28-5660900A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7E50A-B6FA-47B1-ABCA-E92A8CAC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0E9-BB6C-4299-BDA1-5D670583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AD880-B360-47D8-8F62-D79AE426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754E4-FD45-4BFD-B04D-C086D31F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D5BE3-E8B5-40C5-95D3-FEDF746D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CC95C-EC58-4FE3-A525-340F14D6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D929-CD07-4509-85C9-D6EE17ED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C704A-52E4-4656-BE87-DB1AB2D4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804C2-0CC7-44A0-8817-423E360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69A8B-27C7-48C1-B807-B3174463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C03A0-FF55-457E-B37F-2CB6312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9C832-BCB2-42F1-B910-2FB67E95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03D-4670-4AAC-9455-96E51360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4ECE0-9C78-4B2C-BEC4-B57C97B9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23560-BE64-4376-8B4E-CF59916A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F48F9-CC80-4A91-8B62-AAC4547C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27CFC-54B6-43CC-946A-78B80E74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2914E-DA6A-4AA2-BFD9-E5188AFC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EF8F2-3E03-484D-AB32-93986121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EBB19-90F4-4955-B3F4-1B50CC22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45D11-E822-441A-B1CC-D3A3DC1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F8A0D-AA55-442E-BE8B-9081099C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17186-8763-4B24-B841-683CFEAD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F71-B136-41DA-AFBD-C65227A3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E16BF-5CC4-49DB-836B-B61383C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7AA5D-4CC7-4DCB-8575-4F52A413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33AF8-B31D-43FD-A771-ADD8B738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82CEB-8056-4136-99C6-DAAD051D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4A82C-7D28-4015-943A-F72C9680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6A6-84CC-4EE3-9E45-F5577945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CC13-41F2-4626-A27C-0962FB786D0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97C4-BE9A-47C9-8A12-E81394D7ADB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4E8F-FCDD-4B0C-9CF3-50D9A1C5E6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74A3-0C50-457F-B207-0D38A4510FF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954C-934E-416F-87D6-1E34F3C5C36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B0C-828C-401F-861A-5AD35953D9A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6ACE-69E9-4E39-8A1E-B29DC5F9CF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28800" y="5000400"/>
            <a:ext cx="77724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сихологическая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готовность к школе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6" descr="Ð¡ÐºÐ¾ÑÐ¾ Ð² ÑÐºÐ¾Ð»Ñ"/>
          <p:cNvPicPr/>
          <p:nvPr/>
        </p:nvPicPr>
        <p:blipFill>
          <a:blip r:embed="rId1"/>
          <a:stretch/>
        </p:blipFill>
        <p:spPr>
          <a:xfrm>
            <a:off x="2286000" y="357120"/>
            <a:ext cx="5529240" cy="4143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786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rbel"/>
              </a:rPr>
              <a:t>1. Развитие у ребенка самостоятельности.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ÐÐ°ÑÑÐ¸Ð½ÐºÐ¸ Ð¿Ð¾ Ð·Ð°Ð¿ÑÐ¾ÑÑ ÑÐ°Ð·Ð²Ð¸ÑÐ¸Ðµ ÑÐ°Ð¼Ð¾ÑÑÐ¾ÑÑÐµÐ»ÑÐ½Ð¾ÑÑÐ¸  ÐºÐ°ÑÑÐ¸Ð½ÐºÐ¸"/>
          <p:cNvPicPr/>
          <p:nvPr/>
        </p:nvPicPr>
        <p:blipFill>
          <a:blip r:embed="rId1"/>
          <a:stretch/>
        </p:blipFill>
        <p:spPr>
          <a:xfrm>
            <a:off x="3571920" y="2571840"/>
            <a:ext cx="47721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786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rbel"/>
              </a:rPr>
              <a:t>2. Владение навыками самообслуживания.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000080" y="2714760"/>
            <a:ext cx="50720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786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rbel"/>
              </a:rPr>
              <a:t>3. </a:t>
            </a:r>
            <a:r>
              <a:rPr b="0" lang="ru-RU" sz="4800" spc="-1" strike="noStrike">
                <a:solidFill>
                  <a:srgbClr val="611617"/>
                </a:solidFill>
                <a:latin typeface="Corbel"/>
              </a:rPr>
              <a:t>Умение организовать рабочее место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2" descr="ÐÐ°ÑÑÐ¸Ð½ÐºÐ¸ Ð¿Ð¾ Ð·Ð°Ð¿ÑÐ¾ÑÑ ÑÐºÐ¾Ð»ÑÐ½Ð¸Ðº Ð·Ð° Ð¿Ð°ÑÑÐ¾Ð¹ ÐºÐ°ÑÑÐ¸Ð½ÐºÐ¸"/>
          <p:cNvPicPr/>
          <p:nvPr/>
        </p:nvPicPr>
        <p:blipFill>
          <a:blip r:embed="rId1"/>
          <a:stretch/>
        </p:blipFill>
        <p:spPr>
          <a:xfrm>
            <a:off x="3714840" y="2714760"/>
            <a:ext cx="50720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786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rbel"/>
              </a:rPr>
              <a:t>4. </a:t>
            </a:r>
            <a:r>
              <a:rPr b="0" lang="ru-RU" sz="4800" spc="-1" strike="noStrike">
                <a:solidFill>
                  <a:srgbClr val="611617"/>
                </a:solidFill>
                <a:latin typeface="Corbel"/>
              </a:rPr>
              <a:t>Разнообразный опыт общени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ÐÐ°ÑÑÐ¸Ð½ÐºÐ¸ Ð¿Ð¾ Ð·Ð°Ð¿ÑÐ¾ÑÑ Ð¾Ð±ÑÐµÐ½Ð¸Ðµ Ð¼Ð»Ð°Ð´ÑÐ¸Ñ ÑÐºÐ¾Ð»ÑÐ½Ð¸ÐºÐ¾Ð² ÐºÐ°ÑÑÐ¸Ð½ÐºÐ¸"/>
          <p:cNvPicPr/>
          <p:nvPr/>
        </p:nvPicPr>
        <p:blipFill>
          <a:blip r:embed="rId1"/>
          <a:stretch/>
        </p:blipFill>
        <p:spPr>
          <a:xfrm>
            <a:off x="1500120" y="3071880"/>
            <a:ext cx="3800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786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rbel"/>
              </a:rPr>
              <a:t>5. </a:t>
            </a:r>
            <a:r>
              <a:rPr b="0" lang="ru-RU" sz="4800" spc="-1" strike="noStrike">
                <a:solidFill>
                  <a:srgbClr val="611617"/>
                </a:solidFill>
                <a:latin typeface="Corbel"/>
              </a:rPr>
              <a:t>Учить ребенка не теряться, когда ребенка критикуют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2" descr="ÐÐ°ÑÑÐ¸Ð½ÐºÐ¸ Ð¿Ð¾ Ð·Ð°Ð¿ÑÐ¾ÑÑ ÐºÑÐ¸ÑÐ¸ÐºÐ° ÑÐµÐ±ÐµÐ½ÐºÐ° ÐºÐ°ÑÑÐ¸Ð½ÐºÐ¸"/>
          <p:cNvPicPr/>
          <p:nvPr/>
        </p:nvPicPr>
        <p:blipFill>
          <a:blip r:embed="rId1"/>
          <a:stretch/>
        </p:blipFill>
        <p:spPr>
          <a:xfrm>
            <a:off x="5214960" y="32148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786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rbel"/>
              </a:rPr>
              <a:t>6. </a:t>
            </a:r>
            <a:r>
              <a:rPr b="0" lang="ru-RU" sz="4800" spc="-1" strike="noStrike">
                <a:solidFill>
                  <a:srgbClr val="611617"/>
                </a:solidFill>
                <a:latin typeface="Corbel"/>
              </a:rPr>
              <a:t>Уметь выражать свои потребности словами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ÐÐ°ÑÑÐ¸Ð½ÐºÐ¸ Ð¿Ð¾ Ð·Ð°Ð¿ÑÐ¾ÑÑ ÑÐµÐ±ÐµÐ½Ð¾Ðº Ð³Ð¾Ð²Ð¾ÑÐ¸Ñ ÐºÐ°ÑÑÐ¸Ð½ÐºÐ¸"/>
          <p:cNvPicPr/>
          <p:nvPr/>
        </p:nvPicPr>
        <p:blipFill>
          <a:blip r:embed="rId1"/>
          <a:stretch/>
        </p:blipFill>
        <p:spPr>
          <a:xfrm>
            <a:off x="1071720" y="2643120"/>
            <a:ext cx="4336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0080" y="642960"/>
            <a:ext cx="7786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rbel"/>
              </a:rPr>
              <a:t>7. </a:t>
            </a:r>
            <a:r>
              <a:rPr b="0" lang="ru-RU" sz="4800" spc="-1" strike="noStrike">
                <a:solidFill>
                  <a:srgbClr val="611617"/>
                </a:solidFill>
                <a:latin typeface="Corbel"/>
              </a:rPr>
              <a:t>Доводить дело до конц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ÐÐ°ÑÑÐ¸Ð½ÐºÐ¸ Ð¿Ð¾ Ð·Ð°Ð¿ÑÐ¾ÑÑ ÑÐµÐ±ÐµÐ½Ð¾Ðº Ð´Ð¾Ð²ÐµÐ» Ð´ÐµÐ»Ð¾ Ð´Ð¾ ÐºÐ¾Ð½ÑÐ° ÐºÐ°ÑÑÐ¸Ð½ÐºÐ¸"/>
          <p:cNvPicPr/>
          <p:nvPr/>
        </p:nvPicPr>
        <p:blipFill>
          <a:blip r:embed="rId1"/>
          <a:stretch/>
        </p:blipFill>
        <p:spPr>
          <a:xfrm>
            <a:off x="1071720" y="2786040"/>
            <a:ext cx="4095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0080" y="642960"/>
            <a:ext cx="7786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rbel"/>
              </a:rPr>
              <a:t>8. </a:t>
            </a:r>
            <a:r>
              <a:rPr b="0" lang="ru-RU" sz="4800" spc="-1" strike="noStrike">
                <a:solidFill>
                  <a:srgbClr val="611617"/>
                </a:solidFill>
                <a:latin typeface="Corbel"/>
              </a:rPr>
              <a:t>Сформированность элементарных навыков работы на урок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ÐÐ°ÑÑÐ¸Ð½ÐºÐ¸ Ð¿Ð¾ Ð·Ð°Ð¿ÑÐ¾ÑÑ ÑÐºÐ¾Ð»ÑÐ½Ð¸Ðº Ð½Ð° ÑÑÐ¾ÐºÐµ ÐºÐ°ÑÑÐ¸Ð½ÐºÐ¸"/>
          <p:cNvPicPr/>
          <p:nvPr/>
        </p:nvPicPr>
        <p:blipFill>
          <a:blip r:embed="rId1"/>
          <a:stretch/>
        </p:blipFill>
        <p:spPr>
          <a:xfrm>
            <a:off x="4572000" y="3286080"/>
            <a:ext cx="39816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786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rbel"/>
              </a:rPr>
              <a:t>9. </a:t>
            </a:r>
            <a:r>
              <a:rPr b="0" lang="ru-RU" sz="4800" spc="-1" strike="noStrike">
                <a:solidFill>
                  <a:srgbClr val="611617"/>
                </a:solidFill>
                <a:latin typeface="Corbel"/>
              </a:rPr>
              <a:t>Соблюдение режима дн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5" descr="97495136_0_82696_948484ea_XL.jpg"/>
          <p:cNvPicPr/>
          <p:nvPr/>
        </p:nvPicPr>
        <p:blipFill>
          <a:blip r:embed="rId1"/>
          <a:stretch/>
        </p:blipFill>
        <p:spPr>
          <a:xfrm>
            <a:off x="1189080" y="2627280"/>
            <a:ext cx="378468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rbel"/>
              </a:rPr>
              <a:t>Добро пожаловать в МБОУ «Гимназия №3» !!!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rcRect l="2911" t="0" r="6188" b="0"/>
          <a:stretch/>
        </p:blipFill>
        <p:spPr>
          <a:xfrm>
            <a:off x="357120" y="2928960"/>
            <a:ext cx="85726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Новообразования на этапе поступления ребенка в школу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28760" y="1932120"/>
            <a:ext cx="8501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Ребенок переходит к систематической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обретается статус уче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озникают отношения «ученик - учитель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1583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ческая готовность к школе </a:t>
            </a: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-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9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это комплексный показатель, позволяющий прогнозировать успешность или неуспешность обучения первоклассник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9640" y="4581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оказатели психологической готовност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28760" y="1508040"/>
            <a:ext cx="850104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Интеллектуальная гото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ационная гото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олевая готов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Коммуникативная гото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нтеллектуальная готовность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28760" y="1148760"/>
            <a:ext cx="85010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Развитие внимания, памя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формированность мыслительных опера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Умения устанавливать связи между явлениями и события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ÐÐ°ÑÑÐ¸Ð½ÐºÐ¸ Ð¿Ð¾ Ð·Ð°Ð¿ÑÐ¾ÑÑ Ð¸Ð½ÑÐµÐ»Ð»ÐµÐºÑÑÐ°Ð»ÑÐ½Ð°Ñ Ð³Ð¾ÑÐ¾Ð²Ð½Ð¾ÑÑÑ ÐºÐ°ÑÑÐ¸Ð½ÐºÐ¸"/>
          <p:cNvPicPr/>
          <p:nvPr/>
        </p:nvPicPr>
        <p:blipFill>
          <a:blip r:embed="rId1"/>
          <a:stretch/>
        </p:blipFill>
        <p:spPr>
          <a:xfrm>
            <a:off x="2643120" y="371484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левая готовность: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0" y="1008000"/>
            <a:ext cx="9144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личие у ребенка способностей ставить перед собой ц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нимать решение о начале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мечать план действий, выполнять ег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Уметь длительно выполнять не очень привлекательн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ÐÐ°ÑÑÐ¸Ð½ÐºÐ¸ Ð¿Ð¾ Ð·Ð°Ð¿ÑÐ¾ÑÑ ÑÐ¸Ð»Ð° Ð²Ð¾Ð»Ñ ÑÐµÐ±ÐµÐ½ÐºÐ° ÐºÐ°ÑÑÐ¸Ð½ÐºÐ¸"/>
          <p:cNvPicPr/>
          <p:nvPr/>
        </p:nvPicPr>
        <p:blipFill>
          <a:blip r:embed="rId1"/>
          <a:stretch/>
        </p:blipFill>
        <p:spPr>
          <a:xfrm>
            <a:off x="2714760" y="4071960"/>
            <a:ext cx="3747960" cy="2500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оммуникативная готовность: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0" y="865080"/>
            <a:ext cx="9144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Умение ребенка подчинять свое поведение нормам, установленным в клас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пособность влючиться в детское сообще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Действовать совместно с другими ребят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Уступать или отстаивать свою правоту социально допустимыми спо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ÐÐ°ÑÑÐ¸Ð½ÐºÐ¸ Ð¿Ð¾ Ð·Ð°Ð¿ÑÐ¾ÑÑ ÐºÐ¾Ð¼Ð¼ÑÐ½Ð¸ÐºÐ°ÑÐ¸Ð²Ð½Ð°Ñ Ð³Ð¾ÑÐ¾Ð²Ð½Ð¾ÑÑÑ ÐºÐ°ÑÑÐ¸Ð½ÐºÐ¸"/>
          <p:cNvPicPr/>
          <p:nvPr/>
        </p:nvPicPr>
        <p:blipFill>
          <a:blip r:embed="rId1"/>
          <a:stretch/>
        </p:blipFill>
        <p:spPr>
          <a:xfrm>
            <a:off x="2571840" y="3857760"/>
            <a:ext cx="4200480" cy="2782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отивационная готовность: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0" y="857520"/>
            <a:ext cx="91440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личие желания принять новую социальную роль – роль шк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116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2643120" y="2857680"/>
            <a:ext cx="3976920" cy="3357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786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rbel"/>
              </a:rPr>
              <a:t>На какие моменты необходимо обратить внимание</a:t>
            </a:r>
            <a:r>
              <a:rPr b="0" lang="ru-RU" sz="7200" spc="-1" strike="noStrike">
                <a:solidFill>
                  <a:srgbClr val="c00000"/>
                </a:solidFill>
                <a:latin typeface="Corbel"/>
              </a:rPr>
              <a:t>?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Рисунок 2" descr="2-podgotovka-detej-k-shkole.jpg"/>
          <p:cNvPicPr/>
          <p:nvPr/>
        </p:nvPicPr>
        <p:blipFill>
          <a:blip r:embed="rId1"/>
          <a:stretch/>
        </p:blipFill>
        <p:spPr>
          <a:xfrm>
            <a:off x="4643280" y="3429000"/>
            <a:ext cx="3516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2:33:52Z</dcterms:created>
  <dc:creator>днс</dc:creator>
  <dc:description/>
  <dc:language>en-US</dc:language>
  <cp:lastModifiedBy>User</cp:lastModifiedBy>
  <dcterms:modified xsi:type="dcterms:W3CDTF">2018-03-18T02:37:37Z</dcterms:modified>
  <cp:revision>43</cp:revision>
  <dc:subject/>
  <dc:title>Психологическая готовность к школе</dc:title>
</cp:coreProperties>
</file>